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F16-F042-407E-970D-77FF9BA8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663-748A-41B9-A432-38189E97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ADF-D4E8-45D0-BD5D-07E9A35E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408-FBA5-4B8B-99FD-3AFE7031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DEA-FB3E-4005-A1D3-2CAFBC09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443-9CAE-4E81-B7D3-5398D552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DFE-64F2-4978-BCB8-905D392C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640-0AD3-40AA-B83E-CEA90187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269-5795-4A71-BB10-E413BF47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61F-1208-4184-A848-FFC22A1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E2C-F11D-4728-A3F2-FEB69CD1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3E9-2024-4F59-8604-287A2576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D878-5DC5-4AD5-BD9F-97F11781E5B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Zbyněk Křivka</cp:lastModifiedBy>
  <dcterms:modified xsi:type="dcterms:W3CDTF">2005-11-06T20:19:11Z</dcterms:modified>
  <cp:revision>167</cp:revision>
  <dc:subject/>
  <dc:title>Alphabets, Strings, and Languages</dc:title>
</cp:coreProperties>
</file>